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77C-17CE-4836-9615-28950440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B59-1F8A-4D37-8361-11C807E8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9D7-EBDD-47B4-9BDA-81D0557C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263-2014-431F-9343-617750EF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63E7-C61E-4D42-AEBA-0B1E9013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4738-1577-40C1-B374-C412BCDA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2FB6-9345-4DC5-9591-F1F9CB98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054B-9BF8-48E0-AFC8-0C70BB40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55B3-73E2-4CF5-9E42-72AD7A1A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38D2-9401-4B26-BA90-B2C6EF80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BE2A-4419-4388-9648-9805F74E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88D-8D26-4670-94CB-D515123C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1597-25CD-4EC2-BD4F-DABD6D2F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1B5F-5EE8-4D45-8AB7-16317BFE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BD58-3290-4D94-9627-89DE10EE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C470-C191-4DF1-8A51-79AACAAA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BC97-6DF5-4BBD-9B10-C8BC1791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6C4-6153-4D20-A797-20B59664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EB9-2F58-4293-88AA-FEC5F362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505-ED94-4F39-B3B9-BF373B60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EC3-273C-493B-B6E5-72F038B4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8C0-6FCD-4369-87DB-88F19DCB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972-E529-4182-BA94-0B374823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67C-28EC-473B-9F33-48C504F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A313-BAA8-4437-9D08-ECC3BB8AD5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F27E-2C43-43D8-87C2-753220F99B5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how.zoho.com/public/pfranklin/let&apos;s%20begin%20at%20the%20beginning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vo.wikispaces.com/" TargetMode="External"/><Relationship Id="rId2" Type="http://schemas.openxmlformats.org/officeDocument/2006/relationships/hyperlink" Target="http://bit.ly/tvo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e.int/t/dg4/linguistic/CADRE_EN.asp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STORY CONTINU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Foreign Languag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R/P &amp; I/M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Approach to Curriculum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Attem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this was th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Implem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VERING ALL THE B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d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EXTS &amp; TOPICS ARE THOROUGHLY SH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QUIRED ACTIV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ice weekly dictations – forms A and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ice/thrice weekly response jour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monthly recitations = songs, chants, po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quent listening ho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quent speaking ho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RD DIGR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-wide topic = F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itable for (almost) every grade and for French and German, to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 to incorporate the following inputs appropriately during the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volve the students as much as poss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UNGRY PLANET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WORLD EA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6782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RST DIGR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L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99"/>
                </a:solidFill>
                <a:latin typeface="Arial"/>
              </a:rPr>
              <a:t>CONTENT </a:t>
            </a:r>
            <a:br>
              <a:rPr sz="4400"/>
            </a:br>
            <a:r>
              <a:rPr b="1" lang="en-US" sz="4400" spc="-1" strike="noStrike">
                <a:solidFill>
                  <a:srgbClr val="99cc99"/>
                </a:solidFill>
                <a:latin typeface="Arial"/>
              </a:rPr>
              <a:t>and LANGUAGE INTEGRATED LEAR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SIG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your grade level, collaboratively work out units (R/P &amp;I/M) to share on Sept. 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with all the foreign language teacher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 to use displays and bulletin boards on this topic throughout the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NEW BEGI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DOM within CONSTRA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nge the metaphor = Change the reality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journey from September to Jun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and beyond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family outing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joyrid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xpedition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dventure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KT PIL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PECIAL CLIL MODULE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n Friday, September 5, 2008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r a group of volunteers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Deadline for registration is Friday, August 22, 2008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ABO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vo.wikispaces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CAN NOW BE REACHED SIMPLY FROM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bit.ly/t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238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F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European Framework of Reference for 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go there n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OND DIGR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00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ATIONALE for R/P &amp; I/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VER NORMAL LANGUAGE ACTIVITIE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CATE RESOURCE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STER COLLABORATION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IMULATE CREA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3:35:26Z</dcterms:created>
  <dc:creator>pf</dc:creator>
  <dc:description/>
  <dc:language>en-US</dc:language>
  <cp:lastModifiedBy>pf</cp:lastModifiedBy>
  <dcterms:modified xsi:type="dcterms:W3CDTF">2008-08-17T18:57:10Z</dcterms:modified>
  <cp:revision>15</cp:revision>
  <dc:subject/>
  <dc:title>The Story Continues</dc:title>
</cp:coreProperties>
</file>